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gif" ContentType="image/gif"/>
  <Override PartName="/ppt/media/image7.gif" ContentType="image/gif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179856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447920" y="416268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920" y="179856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7360" y="179856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47920" y="416268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7360" y="416268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920" y="179856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95560" y="179856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43200" y="179856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447920" y="416268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895560" y="416268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43200" y="416268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447920" y="17985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447920" y="17985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47920" y="179856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7360" y="179856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47920" y="47268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920" y="179856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7360" y="179856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447920" y="416268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920" y="179856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7360" y="179856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7360" y="416268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920" y="179856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7360" y="179856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47920" y="416268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920" y="17985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oons.artie.com/" TargetMode="Externa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7320" y="1653840"/>
            <a:ext cx="73105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scribing Mo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ton’s La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17985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The  acceleration of an object depends on the mass of the object and the amount of force appli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Formu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Force = mass x accel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47920" y="17985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cceleration &amp;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re 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fo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aced on  an object, the more it will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 acceler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change its motio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cceleration &amp;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re 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m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[or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nert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an object has, the more 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fo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 takes to accelerate the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rd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17985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Action –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Whenever one object exerts a force on a second object, the second object exerts an equal and opposite force on the fir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il"/>
          <p:cNvPicPr/>
          <p:nvPr/>
        </p:nvPicPr>
        <p:blipFill>
          <a:blip r:embed="rId1"/>
          <a:stretch/>
        </p:blipFill>
        <p:spPr>
          <a:xfrm>
            <a:off x="1752480" y="533520"/>
            <a:ext cx="5867640" cy="16700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1447920" y="2666880"/>
            <a:ext cx="701028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uck is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in mo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What is th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o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causes it to stop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us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stopped c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r is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at r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What is th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o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causes it to mo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us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tru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il"/>
          <p:cNvPicPr/>
          <p:nvPr/>
        </p:nvPicPr>
        <p:blipFill>
          <a:blip r:embed="rId1"/>
          <a:stretch/>
        </p:blipFill>
        <p:spPr>
          <a:xfrm>
            <a:off x="1905120" y="304920"/>
            <a:ext cx="5867280" cy="16700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1447920" y="2590920"/>
            <a:ext cx="72388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bout the ladder on top of the tru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dder is in motion because the truck is in mo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truck stops, the ladder stays in mo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uck is stopped by the force of the car, but the ladder is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force stops the ladd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ra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il"/>
          <p:cNvPicPr/>
          <p:nvPr/>
        </p:nvPicPr>
        <p:blipFill>
          <a:blip r:embed="rId1"/>
          <a:stretch/>
        </p:blipFill>
        <p:spPr>
          <a:xfrm>
            <a:off x="1905120" y="304920"/>
            <a:ext cx="5867280" cy="16700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1447920" y="2590920"/>
            <a:ext cx="72388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uck i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 mo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car i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t r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How do each of these vehicles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accele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uck stops moving.  The car starts mov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ne will be the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hardest to accele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uck because it has the most m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il"/>
          <p:cNvPicPr/>
          <p:nvPr/>
        </p:nvPicPr>
        <p:blipFill>
          <a:blip r:embed="rId1"/>
          <a:stretch/>
        </p:blipFill>
        <p:spPr>
          <a:xfrm>
            <a:off x="1905120" y="304920"/>
            <a:ext cx="5867280" cy="16700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1447920" y="2384280"/>
            <a:ext cx="72388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es the car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mo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accelerate] when it is hit by the tru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eavy and moving truck ha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ore 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n the small, at rest c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es the truck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stop mov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n it hits the c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ce of the car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ushing b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he truck, plus the force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ri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the massive truck and the road slow down, the stop the tru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il"/>
          <p:cNvPicPr/>
          <p:nvPr/>
        </p:nvPicPr>
        <p:blipFill>
          <a:blip r:embed="rId1"/>
          <a:stretch/>
        </p:blipFill>
        <p:spPr>
          <a:xfrm>
            <a:off x="1905120" y="304920"/>
            <a:ext cx="5867280" cy="16700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447920" y="2590920"/>
            <a:ext cx="72388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uck hits the car.  An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action 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ops the tru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qual and oppo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action for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ce that pushes the car forwar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we need to define the word </a:t>
            </a:r>
            <a:r>
              <a:rPr b="1" lang="en-US" sz="4000" spc="-1" strike="noStrike" u="sng">
                <a:solidFill>
                  <a:srgbClr val="990099"/>
                </a:solidFill>
                <a:uFillTx/>
                <a:latin typeface="Arial"/>
              </a:rPr>
              <a:t>FOR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47920" y="2361960"/>
            <a:ext cx="670536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ush or a pull exerted on an object in order to change the motion of the objec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MCj01052040000[1]"/>
          <p:cNvPicPr/>
          <p:nvPr/>
        </p:nvPicPr>
        <p:blipFill>
          <a:blip r:embed="rId1"/>
          <a:stretch/>
        </p:blipFill>
        <p:spPr>
          <a:xfrm>
            <a:off x="2057400" y="5562720"/>
            <a:ext cx="1836720" cy="731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MCj01052060000[1]"/>
          <p:cNvPicPr/>
          <p:nvPr/>
        </p:nvPicPr>
        <p:blipFill>
          <a:blip r:embed="rId2"/>
          <a:stretch/>
        </p:blipFill>
        <p:spPr>
          <a:xfrm>
            <a:off x="5715000" y="5486400"/>
            <a:ext cx="18478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ces are measured in </a:t>
            </a: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Newt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47560" y="179856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: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d by using a spring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5638680" y="4114800"/>
            <a:ext cx="1333800" cy="2000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2"/>
          <a:stretch/>
        </p:blipFill>
        <p:spPr>
          <a:xfrm>
            <a:off x="2209680" y="3962520"/>
            <a:ext cx="15973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ces may be </a:t>
            </a: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balanc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unbalanc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17985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Balanced for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ll forces acting on an object are eq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O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Unbalanced for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one or more forces acting on an object are stronger than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ET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47920" y="17985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ction is a force that opposes motion between two surfaces that are in contac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Fr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447920" y="17985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inetic Friction – sliding or rolling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ic Friction  -  when a force is applied, but the object does not mo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ewton’s Law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8960" y="179856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First Law – Inertia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econd Law – Acceleration, Force &amp; Ma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Third Law – Action-Reaction</a:t>
            </a: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7920" y="1798560"/>
            <a:ext cx="354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ner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bject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t r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not moving] remains at rest unless acted on by a force [push or pull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bject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 mo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mains in motion unless acted on by a force [push or pull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MMj01739680000[1]"/>
          <p:cNvPicPr/>
          <p:nvPr/>
        </p:nvPicPr>
        <p:blipFill>
          <a:blip r:embed="rId1"/>
          <a:stretch/>
        </p:blipFill>
        <p:spPr>
          <a:xfrm>
            <a:off x="5410080" y="2819520"/>
            <a:ext cx="251460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4726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nertia &amp;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amount of matter in a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re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 object has, the more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ERT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object h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ger objects are harder to start &amp;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8"/>
          <p:cNvSpPr/>
          <p:nvPr/>
        </p:nvSpPr>
        <p:spPr>
          <a:xfrm>
            <a:off x="3962520" y="617220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oons.artie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0" descr="arg-newtrain-crop"/>
          <p:cNvPicPr/>
          <p:nvPr/>
        </p:nvPicPr>
        <p:blipFill>
          <a:blip r:embed="rId2"/>
          <a:stretch/>
        </p:blipFill>
        <p:spPr>
          <a:xfrm>
            <a:off x="3581280" y="4495680"/>
            <a:ext cx="27054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4T20:14:54Z</dcterms:created>
  <dc:creator>Mary Poarch</dc:creator>
  <dc:description/>
  <dc:language>en-US</dc:language>
  <cp:lastModifiedBy>James</cp:lastModifiedBy>
  <dcterms:modified xsi:type="dcterms:W3CDTF">2015-12-08T13:23:54Z</dcterms:modified>
  <cp:revision>4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sMyDocuments">
    <vt:lpwstr>1</vt:lpwstr>
  </property>
</Properties>
</file>